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51D15-7A00-46C5-A7E1-BF9B59A11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FDD00-55B8-4C4A-B947-52EC7170D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70658-6952-4146-8DF3-2E6963431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5600-43A1-48B7-9B2C-A269522A4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032D1-D3BF-4820-972F-EC9730FFD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1156F-9A3E-46F9-BF5A-10E8AC7A4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3B896-AAC5-45D9-8959-61AB4A6CF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B6A0D-8EEC-450F-80D1-F752A00EA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218D7-82F5-47D9-8725-47704331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D8CCC-1D41-4F20-9916-B3F69790D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5257B-F03F-4F7E-A6CF-BA6573376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8AA63-8B48-40D8-81EF-C9BFFFCA8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44BFC-4074-4ECD-94E7-7898655A6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1B798-70B6-4DCA-A72B-AFAABB4B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DE832-59E9-4554-ABF3-4EDA9D7DE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95AF6-9CEF-47B6-9E2C-23253F66D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85E59-C38A-4BBD-B94A-2C4E1E191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D1248-AFAC-44C2-A9BC-A0E085BAF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99DB-917F-4D2A-8C1F-0FE403AA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F245D-D5D8-487A-9ACC-7651CD7C3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2347-1962-402E-A933-9AAFDDFB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EF30-FCF0-4433-84AE-82C45629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12DD3-152B-4F1A-89B6-16B933393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1189-23BB-44ED-9643-862571AA1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2453-C842-49CC-B7AA-EEF41CDB1A9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A0ED-2580-42E3-B91A-5F11F96FA6F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Socialism and Communism</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king Utopia</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ocial democracy’s similarities </a:t>
            </a:r>
            <a:br>
              <a:rPr sz="4000"/>
            </a:br>
            <a:r>
              <a:rPr b="0" lang="en-US" sz="4000" spc="-1" strike="noStrike">
                <a:solidFill>
                  <a:srgbClr val="ffffcc"/>
                </a:solidFill>
                <a:latin typeface="Tahoma"/>
              </a:rPr>
              <a:t>with Marxism</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ask the question: why should those who provide the money (capital) receive all the profits, and those who provide the labor receive none of the profi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labor, after all, that turns raw materials (including cash) into something with greater valu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ocial democracy’s differences </a:t>
            </a:r>
            <a:br>
              <a:rPr sz="4000"/>
            </a:br>
            <a:r>
              <a:rPr b="0" lang="en-US" sz="4000" spc="-1" strike="noStrike">
                <a:solidFill>
                  <a:srgbClr val="ffffcc"/>
                </a:solidFill>
                <a:latin typeface="Tahoma"/>
              </a:rPr>
              <a:t>from Marxism</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 property not abolished, but the public should control the use of property and make necessities available to all.</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 rights not abolished but should complement other important values such as concern for others.</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can occur through an evolutionary process that uses democratic mea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x’s view of social democracy</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l Marx said social democrats were naive to think that “enlightened capitalists” would join with workers to form a new societ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olent revolution was inevi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rl Marx</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rman political thinker in 19</a:t>
            </a:r>
            <a:r>
              <a:rPr b="0" lang="en-US" sz="3200" spc="-1" strike="noStrike" baseline="30000">
                <a:solidFill>
                  <a:srgbClr val="ffffff"/>
                </a:solidFill>
                <a:latin typeface="Tahoma"/>
              </a:rPr>
              <a:t>th</a:t>
            </a:r>
            <a:r>
              <a:rPr b="0" lang="en-US" sz="3200" spc="-1" strike="noStrike">
                <a:solidFill>
                  <a:srgbClr val="ffffff"/>
                </a:solidFill>
                <a:latin typeface="Tahoma"/>
              </a:rPr>
              <a:t> centu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most of his work in Britai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uenced by German philosopher Heg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shed </a:t>
            </a:r>
            <a:r>
              <a:rPr b="0" i="1" lang="en-US" sz="3200" spc="-1" strike="noStrike">
                <a:solidFill>
                  <a:srgbClr val="ffffff"/>
                </a:solidFill>
                <a:latin typeface="Tahoma"/>
              </a:rPr>
              <a:t>Communist Manifesto</a:t>
            </a:r>
            <a:r>
              <a:rPr b="0" lang="en-US" sz="3200" spc="-1" strike="noStrike">
                <a:solidFill>
                  <a:srgbClr val="ffffff"/>
                </a:solidFill>
                <a:latin typeface="Tahoma"/>
              </a:rPr>
              <a:t> in 1848 with co-author Frederick Eng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ote multi-volume </a:t>
            </a:r>
            <a:r>
              <a:rPr b="0" i="1" lang="en-US" sz="3200" spc="-1" strike="noStrike">
                <a:solidFill>
                  <a:srgbClr val="ffffff"/>
                </a:solidFill>
                <a:latin typeface="Tahoma"/>
              </a:rPr>
              <a:t>Capital</a:t>
            </a:r>
            <a:r>
              <a:rPr b="0" lang="en-US" sz="3200" spc="-1" strike="noStrike">
                <a:solidFill>
                  <a:srgbClr val="ffffff"/>
                </a:solidFill>
                <a:latin typeface="Tahoma"/>
              </a:rPr>
              <a:t> (</a:t>
            </a:r>
            <a:r>
              <a:rPr b="0" i="1" lang="en-US" sz="3200" spc="-1" strike="noStrike">
                <a:solidFill>
                  <a:srgbClr val="ffffff"/>
                </a:solidFill>
                <a:latin typeface="Tahoma"/>
              </a:rPr>
              <a:t>Das Kapital)</a:t>
            </a:r>
            <a:r>
              <a:rPr b="0" lang="en-US" sz="3200" spc="-1" strike="noStrike">
                <a:solidFill>
                  <a:srgbClr val="ffffff"/>
                </a:solidFill>
                <a:latin typeface="Tahoma"/>
              </a:rPr>
              <a:t>, starting in 186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rl Marx</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tudied British economic records for 20 years to develop theory that everything is based on the economic system: polit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aw, social structur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family relation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ven religious belief.</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1066680" y="3276720"/>
            <a:ext cx="1524240" cy="205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ourgeoi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ourgeois: </a:t>
            </a:r>
            <a:r>
              <a:rPr b="0" lang="en-US" sz="3600" spc="-1" strike="noStrike">
                <a:solidFill>
                  <a:srgbClr val="ffffff"/>
                </a:solidFill>
                <a:latin typeface="Tahoma"/>
              </a:rPr>
              <a:t>modern capitalists who own the means of production and therefore get to keep all the profit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oday, this would include major stockholders in corporation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oletarian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oletarians</a:t>
            </a:r>
            <a:r>
              <a:rPr b="0" lang="en-US" sz="3600" spc="-1" strike="noStrike">
                <a:solidFill>
                  <a:srgbClr val="ffffff"/>
                </a:solidFill>
                <a:latin typeface="Tahoma"/>
              </a:rPr>
              <a:t>: modern wage laborers who sell their labor to live and don’t get any of the profits that they help to create.</a:t>
            </a:r>
            <a:endParaRPr b="0" lang="en-US" sz="3600" spc="-1" strike="noStrike">
              <a:solidFill>
                <a:srgbClr val="ffffff"/>
              </a:solidFill>
              <a:latin typeface="Tahom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includes everyone who is not a stockholder or owner of capital, even professionals who work for a salary.</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rl Marx’s key idea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conomic systems go through historic cycles.  Over time, an economic system becomes rigid and cannot adjust to new technologies, so a new system emerges, with new class relations and oppress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meday, a perfect classless society will emerge and there will be no further cycl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 defined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xt: “An ideology arguing that citizens are best served by policies focused on meeting the basic needs of the </a:t>
            </a:r>
            <a:r>
              <a:rPr b="0" i="1" lang="en-US" sz="3200" spc="-1" strike="noStrike">
                <a:solidFill>
                  <a:srgbClr val="ffffff"/>
                </a:solidFill>
                <a:latin typeface="Tahoma"/>
              </a:rPr>
              <a:t>entire </a:t>
            </a:r>
            <a:r>
              <a:rPr b="0" lang="en-US" sz="3200" spc="-1" strike="noStrike">
                <a:solidFill>
                  <a:srgbClr val="ffffff"/>
                </a:solidFill>
                <a:latin typeface="Tahoma"/>
              </a:rPr>
              <a:t>society rather than on serving the needs of individuals as </a:t>
            </a:r>
            <a:r>
              <a:rPr b="0" i="1" lang="en-US" sz="3200" spc="-1" strike="noStrike">
                <a:solidFill>
                  <a:srgbClr val="ffffff"/>
                </a:solidFill>
                <a:latin typeface="Tahoma"/>
              </a:rPr>
              <a:t>individual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x’s key idea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lave system gave way to feudal economy</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Feudal economy broke down with growth of manufacturing, towns, navigation &amp; transportation, emergence of middle clas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Industrial capitalism emerged, with only two classes: proletariat and bourgeoisie.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strial Capitalism – </a:t>
            </a:r>
            <a:br>
              <a:rPr sz="4000"/>
            </a:br>
            <a:r>
              <a:rPr b="0" lang="en-US" sz="4000" spc="-1" strike="noStrike">
                <a:solidFill>
                  <a:srgbClr val="ffffcc"/>
                </a:solidFill>
                <a:latin typeface="Tahoma"/>
              </a:rPr>
              <a:t>Negative Effects</a:t>
            </a:r>
            <a:endParaRPr b="0" lang="en-US" sz="40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s important human values, replacing even religious belief with naked exploitati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mines an individual’s sense of personal value in one’s work.</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mines human relationships; all relationships are based on cash.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s human freedom.  The only freedom it protects is free trade.</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strial Capitalism – </a:t>
            </a:r>
            <a:br>
              <a:rPr sz="4000"/>
            </a:br>
            <a:r>
              <a:rPr b="0" lang="en-US" sz="4000" spc="-1" strike="noStrike">
                <a:solidFill>
                  <a:srgbClr val="ffffcc"/>
                </a:solidFill>
                <a:latin typeface="Tahoma"/>
              </a:rPr>
              <a:t>Positive Effects</a:t>
            </a: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precedented exploration and technological advancem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 less like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banization opens people’s minds to new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production centralized, leading to favorable conditions for communism to emerge.</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om </a:t>
            </a:r>
            <a:r>
              <a:rPr b="0" i="1" lang="en-US" sz="4400" spc="-1" strike="noStrike">
                <a:solidFill>
                  <a:srgbClr val="ffffcc"/>
                </a:solidFill>
                <a:latin typeface="Tahoma"/>
              </a:rPr>
              <a:t>Communist Manifesto</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The bourgeoisie … has created </a:t>
            </a:r>
            <a:r>
              <a:rPr b="0" lang="en-US" sz="2800" spc="-1" strike="noStrike" u="sng">
                <a:solidFill>
                  <a:srgbClr val="ffffff"/>
                </a:solidFill>
                <a:uFillTx/>
                <a:latin typeface="Tahoma"/>
              </a:rPr>
              <a:t>enormous cities</a:t>
            </a:r>
            <a:r>
              <a:rPr b="0" lang="en-US" sz="2800" spc="-1" strike="noStrike">
                <a:solidFill>
                  <a:srgbClr val="ffffff"/>
                </a:solidFill>
                <a:latin typeface="Tahoma"/>
              </a:rPr>
              <a:t>, has greatly increased the urban population as compared with the rural, and has thus </a:t>
            </a:r>
            <a:r>
              <a:rPr b="0" lang="en-US" sz="2800" spc="-1" strike="noStrike" u="sng">
                <a:solidFill>
                  <a:srgbClr val="ffffff"/>
                </a:solidFill>
                <a:uFillTx/>
                <a:latin typeface="Tahoma"/>
              </a:rPr>
              <a:t>rescued </a:t>
            </a:r>
            <a:r>
              <a:rPr b="0" lang="en-US" sz="2800" spc="-1" strike="noStrike">
                <a:solidFill>
                  <a:srgbClr val="ffffff"/>
                </a:solidFill>
                <a:latin typeface="Tahoma"/>
              </a:rPr>
              <a:t>a considerable part of the population </a:t>
            </a:r>
            <a:r>
              <a:rPr b="0" lang="en-US" sz="2800" spc="-1" strike="noStrike" u="sng">
                <a:solidFill>
                  <a:srgbClr val="ffffff"/>
                </a:solidFill>
                <a:uFillTx/>
                <a:latin typeface="Tahoma"/>
              </a:rPr>
              <a:t>from the</a:t>
            </a:r>
            <a:r>
              <a:rPr b="0" lang="en-US" sz="2800" spc="-1" strike="noStrike">
                <a:solidFill>
                  <a:srgbClr val="ffffff"/>
                </a:solidFill>
                <a:latin typeface="Tahoma"/>
              </a:rPr>
              <a:t> </a:t>
            </a:r>
            <a:r>
              <a:rPr b="0" lang="en-US" sz="2800" spc="-1" strike="noStrike" u="sng">
                <a:solidFill>
                  <a:srgbClr val="ffffff"/>
                </a:solidFill>
                <a:uFillTx/>
                <a:latin typeface="Tahoma"/>
              </a:rPr>
              <a:t>idiocy of rural life</a:t>
            </a:r>
            <a:r>
              <a:rPr b="0" lang="en-US" sz="2800" spc="-1" strike="noStrike">
                <a:solidFill>
                  <a:srgbClr val="ffffff"/>
                </a:solidFill>
                <a:latin typeface="Tahoma"/>
              </a:rPr>
              <a:t>…. The bourgeoisie, during its rule of scarce one hundred years, has created </a:t>
            </a:r>
            <a:r>
              <a:rPr b="0" lang="en-US" sz="2800" spc="-1" strike="noStrike" u="sng">
                <a:solidFill>
                  <a:srgbClr val="ffffff"/>
                </a:solidFill>
                <a:uFillTx/>
                <a:latin typeface="Tahoma"/>
              </a:rPr>
              <a:t>more massive and more colossal productive</a:t>
            </a:r>
            <a:r>
              <a:rPr b="0" lang="en-US" sz="2800" spc="-1" strike="noStrike">
                <a:solidFill>
                  <a:srgbClr val="ffffff"/>
                </a:solidFill>
                <a:latin typeface="Tahoma"/>
              </a:rPr>
              <a:t> </a:t>
            </a:r>
            <a:r>
              <a:rPr b="0" lang="en-US" sz="2800" spc="-1" strike="noStrike" u="sng">
                <a:solidFill>
                  <a:srgbClr val="ffffff"/>
                </a:solidFill>
                <a:uFillTx/>
                <a:latin typeface="Tahoma"/>
              </a:rPr>
              <a:t>forces </a:t>
            </a:r>
            <a:r>
              <a:rPr b="0" lang="en-US" sz="2800" spc="-1" strike="noStrike">
                <a:solidFill>
                  <a:srgbClr val="ffffff"/>
                </a:solidFill>
                <a:latin typeface="Tahoma"/>
              </a:rPr>
              <a:t>than have all preceding generations together… railways, electric telegraphs, clearing of whole continents for cultivation, canalization of riv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unist Revolution Inevitable</a:t>
            </a:r>
            <a:endParaRPr b="0" lang="en-US" sz="4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pitalism creates huge factories.  Workers become concentrated and begin to organize for legal reforms (higher wages/better working conditions).  Their effort fail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ierce competition between capitalists leads to new technologies, which leads to lower cost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unist Revolution Inevitable</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the competition, some capitalists go bankrupt &amp; have to become workers, and many workers lose their jobs as new technology replaces the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2800" spc="-1" strike="noStrike">
                <a:solidFill>
                  <a:srgbClr val="ffffff"/>
                </a:solidFill>
                <a:latin typeface="Tahoma"/>
              </a:rPr>
              <a:t>Consider reports that U.S. workers’ productivity is going up.  Fewer workers are making more goods, which means technology is replacing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unist Revolution Inevitable </a:t>
            </a:r>
            <a:endParaRPr b="0" lang="en-US" sz="40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ater numbers of people permanently unemployed.   Misery widespread.</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er people can afford the products of capitalists, so fewer companies survive.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truggle reaches a climax.</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itions now ripe for revolution.  The proletariat, having nothing to lose but their chains, rise up.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st Revolution</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olution will eliminate private property.  No longer will man have the means of exploiting another ma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urgeoisie will fight, so revolution will be viol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ictatorship of the proletariat will follow to weed out remaining capitalist el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orker’s Utopia</a:t>
            </a: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end, a classless society with no more oppression or internal contradiction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will be free to choose how they labor, and can be creatively productive.  They will be able to live to their fullest potential.  Consider the description in Marx’s </a:t>
            </a:r>
            <a:r>
              <a:rPr b="0" i="1" lang="en-US" sz="3200" spc="-1" strike="noStrike">
                <a:solidFill>
                  <a:srgbClr val="ffffff"/>
                </a:solidFill>
                <a:latin typeface="Tahoma"/>
              </a:rPr>
              <a:t>Communist Manifesto</a:t>
            </a:r>
            <a:r>
              <a:rPr b="0" lang="en-US" sz="3200" spc="-1" strike="noStrike">
                <a:solidFill>
                  <a:srgbClr val="ffffff"/>
                </a:solidFill>
                <a:latin typeface="Tahoma"/>
              </a:rPr>
              <a:t> in 1845:</a:t>
            </a: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orker’s Utopia</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n communist society, …nobody has one exclusive sphere of activity but each can become accomplished in any branch he wishes,… to hunt in the morning, fish in the afternoon, rear cattle in the evening, criticize after dinner, … without ever becoming hunter, fisherman, herdsman or critic.” </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ent roots – Judeo-Christian belief in the common good, which takes precedence over individual desi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rm “socialism” coined in 1827 by British socialist Robert Owen to describe his view of a cooperative new society.</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9" name="" descr=""/>
          <p:cNvPicPr/>
          <p:nvPr/>
        </p:nvPicPr>
        <p:blipFill>
          <a:blip r:embed="rId1"/>
          <a:stretch/>
        </p:blipFill>
        <p:spPr>
          <a:xfrm>
            <a:off x="2590920" y="2209680"/>
            <a:ext cx="47242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s emergence</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beral political parties in 19</a:t>
            </a:r>
            <a:r>
              <a:rPr b="0" lang="en-US" sz="3200" spc="-1" strike="noStrike" baseline="30000">
                <a:solidFill>
                  <a:srgbClr val="ffffff"/>
                </a:solidFill>
                <a:latin typeface="Tahoma"/>
              </a:rPr>
              <a:t>th</a:t>
            </a:r>
            <a:r>
              <a:rPr b="0" lang="en-US" sz="3200" spc="-1" strike="noStrike">
                <a:solidFill>
                  <a:srgbClr val="ffffff"/>
                </a:solidFill>
                <a:latin typeface="Tahoma"/>
              </a:rPr>
              <a:t> century Europe failed to address the desperate needs of working peo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cal liberalism views poverty as an individual choice or failure, not the result of social structures.  Also suspicious of big gover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ism provides a different conception of individual responsibility &amp; of govern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England, socialism became a political movement in 1884, with the creation of the Fabians, who provided the basis for the Labour Party in the UK and the NDP in Canad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s principl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galitarianism</a:t>
            </a:r>
            <a:r>
              <a:rPr b="0" lang="en-US" sz="2800" spc="-1" strike="noStrike">
                <a:solidFill>
                  <a:srgbClr val="ffffff"/>
                </a:solidFill>
                <a:latin typeface="Tahoma"/>
              </a:rPr>
              <a:t> or equality.  Humankind will be unified and cooperative, once wealth is owned and used for the common good.  Capitalism exploits the very people who create society’s wealth.</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alism.  </a:t>
            </a:r>
            <a:r>
              <a:rPr b="0" lang="en-US" sz="2800" spc="-1" strike="noStrike">
                <a:solidFill>
                  <a:srgbClr val="ffffff"/>
                </a:solidFill>
                <a:latin typeface="Tahoma"/>
              </a:rPr>
              <a:t>Division of rich &amp; poor is evil; capitalism is fundamentally unjust.  Instead, the ideal future emphasizes peace, social justice and true liberty for all.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 democrac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ariation on socialism that argues that socialism and democracy can work together. Example: British Labour Par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comes through peaceful democratic processes like ele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cratic governments should promote economic - as well as political - freedom &amp; equ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 democrac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ist political parties compete and win office in every western democracy except the United States.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Argentina Australia, Belgium, Britain, Canada, Colombia, Denmark, Fiji, France, Germany, India, Ireland, Israel, Malaysia, Netherland, Puerto Rico, South Korea, Sri Lanka, Sweden, Venezuela.</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might this be so?  What’s different about the U.S.?</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ocial democracy’s similarities </a:t>
            </a:r>
            <a:br>
              <a:rPr sz="4000"/>
            </a:br>
            <a:r>
              <a:rPr b="0" lang="en-US" sz="4000" spc="-1" strike="noStrike">
                <a:solidFill>
                  <a:srgbClr val="ffffcc"/>
                </a:solidFill>
                <a:latin typeface="Tahoma"/>
              </a:rPr>
              <a:t>with Marxism</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s capitalism as exploitive, leading to social injustice and extreme income inequal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economic conditions have adverse effects on ordinary working people – in terms of physical health, psychological well-being, housing, educatio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23:39:55Z</dcterms:created>
  <dc:creator>Nancy Baker</dc:creator>
  <dc:description/>
  <dc:language>en-US</dc:language>
  <cp:lastModifiedBy>Greg Peters</cp:lastModifiedBy>
  <dcterms:modified xsi:type="dcterms:W3CDTF">2010-10-24T18:55:17Z</dcterms:modified>
  <cp:revision>36</cp:revision>
  <dc:subject/>
  <dc:title>Socialism and Communism </dc:title>
</cp:coreProperties>
</file>